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77600" cy="89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4010040" y="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98520" y="671040"/>
            <a:ext cx="4479840" cy="335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0" y="8507160"/>
            <a:ext cx="306720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4010040" y="8507160"/>
            <a:ext cx="306720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5DC189-AF0F-4B81-A65F-4597E8874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AD4D3-30F2-4AF2-AD6B-783C37002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software applications can read all the various picture formats.  For example, PowerPoint can’t read a png file (which is a picture created using Fireworks) nor can Dreamweaver read a bmp (picture created using Microsoft Pai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91671C-D65C-402E-BEC8-EAAA64251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1AC4EA-7C95-4CD4-9852-50A1AB1F0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if you choose the wrong application, the document will open but there will just be squares or other symbols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05BBAB-17CA-43CF-8228-592EA499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ED71FE-511D-4F8C-9DD7-D1CF8D2E1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E6AA35-EA9C-4C88-B3E3-AA63C8716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85746-67F8-41FF-86F8-6C22B944B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F6B0EC-6F51-4DE5-9F60-9C57DCB19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26EC52-2B76-43AF-9DDF-33E244397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2D8A0A-DEDD-47A4-9B51-070E46D8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6A987F-6CF0-45B7-A803-E9C101631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B1288-C672-45AE-B01B-9F4E843E9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FF18C3-995F-4775-80DA-DBC903400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6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E1B251-36B4-4CBF-AB57-BBF5FD35C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9F6B6-C178-4159-A927-D068D69E5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5261C6-4331-4B9B-8AD6-135CCBC20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67B506-E754-49C3-BD68-7F30EC942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40DF86-8F0A-47C9-A858-6F03C6CE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5C8A49-0075-4B94-9CBE-239CAE1FC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34D0F-59D4-41DF-89B1-ED9655A01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98520" y="671400"/>
            <a:ext cx="4479840" cy="33591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2840" y="4254480"/>
            <a:ext cx="51912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 &amp; Industrial Educ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4010040" y="8507520"/>
            <a:ext cx="3067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8D23A3-CD6C-4AB1-98C0-F9C81AFB7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E45-30D8-48DC-B9AC-57005E4B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128-6643-4882-A466-CEE941D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C4E-0088-4B90-8DFD-A2F991B9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090-DB97-46C7-83C2-B2733760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AA07F-861B-4293-B335-A6F9B3093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1C568-049B-4082-8674-CA254C6D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F8AB9-5845-4849-BD0E-21A6DDC6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A0EE6-6AE0-4183-B8BC-66B55079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33F68-FAC5-4FF0-8119-ED01FCE7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6248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BE778-5FE0-4A35-B831-F0102DFE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30A73-47C1-40E7-A6A0-E7D51B25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885-AE77-4B7E-896E-AFB2126D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985E7-8A7E-4C7D-921F-98D073C6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4A203-7111-4B78-A3F6-46FD4114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E4A11-EE80-4976-ABB5-8EEC4AAC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A488D-4D60-4E8C-815D-FC858DE7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EBA91-4B25-4BDD-A3E6-0F1F5DB338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40F-5C57-4441-A7B3-82F2477B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6AC-A057-4147-8BEF-7EFEDD28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490-E932-4BEE-AA23-8E66D1AE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6248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8B9-FEB7-41CB-9739-FE94722E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673-239A-4AA9-B81D-853F52A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36F-5450-4FF4-9473-9F3B8AD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71C-814E-4D56-BB21-23DD7072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UNT in partnership with 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: [Course Name] - [Lesson Titl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1583-1672-4B1E-AC65-E836BC793E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IT Logo.jpg"/>
          <p:cNvPicPr/>
          <p:nvPr/>
        </p:nvPicPr>
        <p:blipFill>
          <a:blip r:embed="rId2"/>
          <a:stretch/>
        </p:blipFill>
        <p:spPr>
          <a:xfrm>
            <a:off x="6705720" y="380880"/>
            <a:ext cx="1914480" cy="8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40"/>
          <p:cNvSpPr/>
          <p:nvPr/>
        </p:nvSpPr>
        <p:spPr>
          <a:xfrm>
            <a:off x="533520" y="2819520"/>
            <a:ext cx="8001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" name="Picture 9" descr="IT Logo.jpg"/>
          <p:cNvPicPr/>
          <p:nvPr/>
        </p:nvPicPr>
        <p:blipFill>
          <a:blip r:embed="rId2"/>
          <a:stretch/>
        </p:blipFill>
        <p:spPr>
          <a:xfrm>
            <a:off x="6553080" y="457200"/>
            <a:ext cx="1914480" cy="88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UNT in partnership with 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FBCD-50B9-48D0-85E6-1DF2478528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45720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550A-20F8-4BB8-8009-88378A34D5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166680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inciples of Information Technology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304956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Identifying File Types, Purposes &amp; Extens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Pictures, images and graphics can also be identified by their extension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ommon graphic extensions are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bmp - bitma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gif – Graphics Interchange Forma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jpg or .jpeg – Joint Photographic Experts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tiff – Tagged Image File Forma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png – Portable Network Graphi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8A56-DD31-4B6E-8403-9E4C496575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oosing the Right 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4475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Depending on the type of view in the  window, you can see the application name in the lis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2FC0-2164-42F0-BE57-D50C34E1EE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7315200" cy="2971800"/>
          </a:xfrm>
          <a:prstGeom prst="rect">
            <a:avLst/>
          </a:prstGeom>
          <a:ln w="0">
            <a:noFill/>
          </a:ln>
        </p:spPr>
      </p:pic>
      <p:cxnSp>
        <p:nvCxnSpPr>
          <p:cNvPr id="147" name="Straight Arrow Connector 8"/>
          <p:cNvCxnSpPr/>
          <p:nvPr/>
        </p:nvCxnSpPr>
        <p:spPr>
          <a:xfrm flipH="1">
            <a:off x="5333760" y="2438280"/>
            <a:ext cx="305280" cy="1067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oosing the Right 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hoose the correct application to open your file according to its type and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doc or .docx extension means that you should choose Microsoft Word to open the file.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f you choose the wrong application you will get an error message like this one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D07F-B57D-476F-8B86-4E0050ECF0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971800" y="4962600"/>
            <a:ext cx="300024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Purpo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45720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362320" y="6248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E89D-D250-46E0-AD89-D677885557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757520"/>
          <a:ext cx="8229600" cy="3882960"/>
        </p:xfrm>
        <a:graphic>
          <a:graphicData uri="http://schemas.openxmlformats.org/drawingml/2006/table">
            <a:tbl>
              <a:tblPr/>
              <a:tblGrid>
                <a:gridCol w="2438280"/>
                <a:gridCol w="2819520"/>
                <a:gridCol w="2971800"/>
              </a:tblGrid>
              <a:tr h="79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/ Application Nam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8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 of the Applica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8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s of Documents Created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8a8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Wo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Process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letters and repor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Exce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adshe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tables and char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Publish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ktop Publish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ers and Newsletter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PowerPoi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show Presentation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Acces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s, Forms, Queries, Repor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lders are a great way to help you organize your fi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create a new folder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vigate to the disc or drive where you save your 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on the File o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oose New from the drop down men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oose Fol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ype in the name you want to give your fol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something descriptive that will help you identify the contents of the fold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C1EE-0287-46FD-B5C2-C655FE2A09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create as many folders as you ne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ould create a folder named Word Processing then save all your letters and reports in this fol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ould create folders named for each of the classes you are taking this y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re are many different ways to organize folders and fi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he method according to your instructor’s direction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8015-E418-4ED2-A8DC-37C240D361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1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create a copy of an existing fil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-click on the file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 the drop down menu that appears, choos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-click in a blank area of the scre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 the drop down menu that appears, choos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s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You will see the original file and the copied file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opied file will have the word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 the file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CAD1-7087-48F7-AD17-45B86D2D73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38616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160" y="14475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rename an existing fil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-click on the file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 the drop down menu that appears, choos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filename will then be highlighted – just start typing the new 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 sure to leave the extension and the period in front of i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2800" indent="-312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ike the enter key when finish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B659-D442-49F3-8112-5134737F3A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6479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Manipu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160" y="144792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delete an existing file or folder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ght-click on the filename or folder na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 the drop down menu that appears, choos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You will get a delete file message asking if you are sure you want to permanently delete this fil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YES to delete the fil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39DB-8D85-493D-88C6-5F478ED318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33720" y="3860640"/>
            <a:ext cx="4724280" cy="21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sson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56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An application software is a computer program that performs a specific function(s) for the user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A group of applications packaged together are called a Su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A file type can be identified by looking at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ample:   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avings.xls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is an Excel spreadsheet f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5A31-474C-4072-8D53-EDFF4D8043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KS Correl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5) The student demonstrates knowledge of the different software associated with information systems. The student is expected 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F) demonstrate understanding of file extensions and the purpose of file types across software products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H) identify appropriate use of application software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L) demonstrate proper file management techniques such as creating, naming, organizing, copying, moving, and deleting fi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B4E2-25E0-441F-977C-03DD747299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sson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Various software applications perform different functions and are used for different purpos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lders are created and named appropriately to help organize fil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les and Folders can be created, named, renamed, moved and deleted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9484-CAE5-4B12-9231-98BE477BE4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45720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C65A-24C5-46F7-B887-AFDA5FE8C8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166680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End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sson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Define and give examples of application software and application suit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dentify a file type by looking at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dentify the specific application software needed to open a given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dentify the uses for a given application softwar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Demonstrate how to create, name, organize, copy, move, and delete files and fold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B00E-8267-4982-82A9-DDB9CF873B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Sof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’ve got an app for that” - App is short for application softwar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Application software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 computer program that performs a specific function(s) for the user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 group of applications packaged together are called a Suit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EEEB-0B35-47D3-BC50-A17236FD8D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Sof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xamples of applications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Google Earth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pplication software locates and gives a virtual picture of any place on ear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Windows Media Player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pplication software plays songs and video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xamples of Suites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Microsoft Office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s a package that bundles Word, Excel, PowerPoint, Publisher and Access together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dobe offers various Suites containing Photoshop, Flash, and other Designing application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71CA-4CDD-4AB3-BA9D-57667CDB26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Using the “my computer” icon or “my files” icon/folder, you can view a list of files contained on your computer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ach file displays an icon, the filename, and an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filename is followed by a period and then an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7EEA-FC24-4FBA-A255-6C8E5F864B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2514600" y="4952880"/>
            <a:ext cx="388620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You can identify a file by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doc  and .docx are Microsoft Word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doc represents a Word document created for version 2003 or les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docx represents a Word document created for version 2007 or higher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E0B1-34E2-46B9-8912-0849199FA0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You can identify a file by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xls  and .xlsx are Microsoft Excel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mdb  and .accd are Microsoft Access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pub  and .pubx are Microsoft Publisher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ppt  and .pptx are Microsoft PowerPoint document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C5B-6777-4CA6-8FF0-FE119935B8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Exten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You can identify a file by its extension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psd represents an Adobe Photoshop docume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fla represents an Adobe Flash docume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avi represents an audio or video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wav represents an audio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mp3 represents an audio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wmv represents a video fil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UNT in partnership with TE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2485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: Principles of Information Technology – Identifying File Types, Purposes &amp; Extensions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80773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3EBA-25A7-40E2-ADC2-39B3A65DD7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acy</dc:creator>
  <dc:description/>
  <dc:language>en-US</dc:language>
  <cp:lastModifiedBy>DeSoto ISD</cp:lastModifiedBy>
  <dcterms:modified xsi:type="dcterms:W3CDTF">2012-01-23T16:32:19Z</dcterms:modified>
  <cp:revision>138</cp:revision>
  <dc:subject/>
  <dc:title>PowerPoint Presentation</dc:title>
</cp:coreProperties>
</file>